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2E6F-2D33-452E-808C-FB859826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BDB2-E4E2-4EED-9257-4829859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4A1B-9152-471E-9D69-07AFBB49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F854-8B59-4091-82B4-2E528891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4C27-3287-425B-B511-D36E81EE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BC0D-9200-41C4-A099-DAE52159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0AFC-FD06-4D56-B018-52282425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6E4B-2A82-4C44-A790-45D1134E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B2F6-05EA-4781-BE04-72AC62F3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C658-80D9-4EE9-8442-CDC5B471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166-D1FC-40D1-8543-73A52BE6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624F-33A3-411D-953A-DB7691B5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95D3-C5A0-4B9E-B7F1-9FEC9020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ABD9-DF95-41F0-B3BB-40AF25D9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DB5-4BB6-473A-8A6A-3DAFF1D6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76E6-6963-427B-8D48-827F6717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1632-78B8-4D04-9DBC-94E05FA1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6550-0552-4CCA-BE1E-449B9CE4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255E-0692-44D0-98B5-F8ACC7E9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0541-2081-4CD4-A226-93DA410F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BE67-0B03-4CF7-8E42-5DBD4358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E328-619C-4C24-8988-95DCAE9A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8F7C-5A95-4CA8-885F-0013F1FC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C9D5-C519-4404-BAB1-F057E8E6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395280" y="333360"/>
            <a:ext cx="8280360" cy="24768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A361-AFDF-4614-8046-27B0D152A272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266760"/>
            <a:ext cx="158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ffffff"/>
                </a:solidFill>
                <a:latin typeface="Arial"/>
              </a:rPr>
              <a:t>GeoGebra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25"/>
          <p:cNvGraphicFramePr/>
          <p:nvPr/>
        </p:nvGraphicFramePr>
        <p:xfrm>
          <a:off x="8317080" y="219240"/>
          <a:ext cx="431640" cy="41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17080" y="219240"/>
                    <a:ext cx="4316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4c4f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BE5B-8056-4FF0-9465-8DBC5F870F53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6840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500" spc="-1" strike="noStrike">
                <a:solidFill>
                  <a:srgbClr val="646464"/>
                </a:solidFill>
                <a:latin typeface="Century Gothic"/>
              </a:rPr>
              <a:t>GeoGebr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3428640"/>
            <a:ext cx="83581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Free Dynamic </a:t>
            </a:r>
            <a:br>
              <a:rPr sz="4100"/>
            </a:b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Mathematics Softw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Chris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Teaching &amp; Learning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Hampshire Count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164360" y="199080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⇔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Graphics</a:t>
            </a:r>
            <a:br>
              <a:rPr sz="3200"/>
            </a:b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ordinates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Point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ircle‘s Equation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cle drawn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‘s Equation ⇔ Graph of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: Sketch &amp;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96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s: Geometry &amp;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26920" y="1876320"/>
            <a:ext cx="7274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s: Math &amp;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s: What happens when ...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35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8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ducational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uden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perimental and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uid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2155680"/>
            <a:ext cx="8137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400" spc="-1" strike="noStrike">
                <a:solidFill>
                  <a:srgbClr val="646464"/>
                </a:solidFill>
                <a:latin typeface="Century Gothic"/>
              </a:rPr>
              <a:t>GeoGebra Communtiy</a:t>
            </a:r>
            <a:br>
              <a:rPr sz="4800"/>
            </a:b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and free softwar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Schools and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orum – Users help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ebraWiki – Pool of Shar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(Translators, Program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Use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180200" cy="40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572080" y="2785680"/>
            <a:ext cx="3571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visi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What is GeoGeb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51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Dynamic Mathematics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or Learning and Teaching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etry, Al</a:t>
            </a: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bra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and Calc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reely available from</a:t>
            </a:r>
            <a:br>
              <a:rPr sz="3000"/>
            </a:br>
            <a:r>
              <a:rPr b="0" lang="de-AT" sz="30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www.geogebra.org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468360" y="1916280"/>
          <a:ext cx="311796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31179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Us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89160" y="1857240"/>
            <a:ext cx="6307200" cy="3930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403280" y="59500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foru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Wiki – Fre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59000" y="1785960"/>
            <a:ext cx="6092640" cy="418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403280" y="60786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wiki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Hands-on </a:t>
            </a:r>
            <a:r>
              <a:rPr b="0" lang="de-AT" sz="5200" spc="-1" strike="noStrike">
                <a:solidFill>
                  <a:srgbClr val="646464"/>
                </a:solidFill>
                <a:latin typeface="Century Gothic"/>
              </a:rPr>
              <a:t>Activities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646464"/>
                </a:solidFill>
                <a:latin typeface="Century Gothic"/>
              </a:rPr>
              <a:t>Thanks to </a:t>
            </a:r>
            <a:r>
              <a:rPr b="1" lang="en-US" sz="2800" spc="-1" strike="noStrike">
                <a:solidFill>
                  <a:srgbClr val="646464"/>
                </a:solidFill>
                <a:latin typeface="Century Gothic"/>
              </a:rPr>
              <a:t>Judith and Markus Hohenwarter</a:t>
            </a:r>
            <a:r>
              <a:rPr b="0" lang="en-US" sz="2800" spc="-1" strike="noStrike">
                <a:solidFill>
                  <a:srgbClr val="646464"/>
                </a:solidFill>
                <a:latin typeface="Century Gothic"/>
              </a:rPr>
              <a:t> for their adaptable resources used today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42920" y="1467000"/>
            <a:ext cx="6985080" cy="520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03280" y="404640"/>
            <a:ext cx="331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Gebra  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98920" y="40464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480000" y="404640"/>
            <a:ext cx="26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6520" y="404640"/>
            <a:ext cx="5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42764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eometry &amp; Graphics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40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gebra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Using GeoGebra for</a:t>
            </a:r>
            <a:br>
              <a:rPr sz="4800"/>
            </a:b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Teaching &amp; Learning</a:t>
            </a: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Adding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1680" y="2343240"/>
            <a:ext cx="80769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534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77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9:12:47Z</dcterms:created>
  <dc:creator>Markus Hohenwarter</dc:creator>
  <dc:description/>
  <dc:language>en-US</dc:language>
  <cp:lastModifiedBy>Chris</cp:lastModifiedBy>
  <dcterms:modified xsi:type="dcterms:W3CDTF">2011-07-05T20:25:50Z</dcterms:modified>
  <cp:revision>222</cp:revision>
  <dc:subject/>
  <dc:title>GeoGebra</dc:title>
</cp:coreProperties>
</file>