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E186F-EC6F-44FD-80F7-511E8421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070D6-7DE0-4C61-81DA-5552E5CC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865F6-A1BE-4B64-AE8D-96054C9F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BA34E-69D7-438F-B9EC-4B6150B0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6D2A-6C80-407B-8A08-6C654C0F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92AA-3DF7-4B68-AB5E-FF7BA3F0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8423-7AAB-42B6-997E-EC2F1E77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C4AB-56E2-4252-9BED-E5002656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F4DA-6AC9-4B8A-8956-886DDB35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3368-7227-4AA3-A9BE-863AA98B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AC71-E9DD-4017-9416-F17999D2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16284-20A0-4AA2-A9E8-DACDEC51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65F6-BB5F-421A-A311-43DADA15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CC43-3B0D-4E8F-A155-D548BE40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155B-6A8F-4205-9779-1826266A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7628-F131-47C9-85D1-0462BC2D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DA85-7418-4177-8A9F-784CCD07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97B6D-E0C7-4ED3-A166-74674CD9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19190-53ED-4576-9E50-B518FD58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F8A8E-2BBC-4276-89E1-2DC1F019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10DED-D02B-44F5-A879-C28080FB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301CF-5085-4F9E-824C-9C03D3FE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36271-59C6-4754-BEA2-65F1FDB3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0680F-B8D5-484C-BF72-621EEA7C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4"/>
          <p:cNvSpPr/>
          <p:nvPr/>
        </p:nvSpPr>
        <p:spPr>
          <a:xfrm>
            <a:off x="395280" y="333360"/>
            <a:ext cx="8280360" cy="24768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9448-2D1E-4264-9031-0565AC02F5E0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395280" y="266760"/>
            <a:ext cx="1584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ffffff"/>
                </a:solidFill>
                <a:latin typeface="Arial"/>
              </a:rPr>
              <a:t>GeoGebra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25"/>
          <p:cNvGraphicFramePr/>
          <p:nvPr/>
        </p:nvGraphicFramePr>
        <p:xfrm>
          <a:off x="8317080" y="219240"/>
          <a:ext cx="431640" cy="41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17080" y="219240"/>
                    <a:ext cx="431640" cy="41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4c4f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41AF-6D20-4BB6-9394-C7AD889CF3D9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eogebra.org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hyperlink" Target="file:///../examples/representations" TargetMode="External"/><Relationship Id="rId3" Type="http://schemas.openxmlformats.org/officeDocument/2006/relationships/hyperlink" Target="file:///../examples/experiments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hyperlink" Target="file:///../examples/representations" TargetMode="External"/><Relationship Id="rId3" Type="http://schemas.openxmlformats.org/officeDocument/2006/relationships/hyperlink" Target="file:///../examples/experiments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6840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500" spc="-1" strike="noStrike">
                <a:solidFill>
                  <a:srgbClr val="646464"/>
                </a:solidFill>
                <a:latin typeface="Century Gothic"/>
              </a:rPr>
              <a:t>GeoGebra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71320" y="3428640"/>
            <a:ext cx="83581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Century Gothic"/>
              </a:rPr>
              <a:t>Free Dynamic </a:t>
            </a:r>
            <a:br>
              <a:rPr sz="4100"/>
            </a:br>
            <a:r>
              <a:rPr b="0" lang="en-US" sz="4100" spc="-1" strike="noStrike">
                <a:solidFill>
                  <a:srgbClr val="646464"/>
                </a:solidFill>
                <a:latin typeface="Century Gothic"/>
              </a:rPr>
              <a:t>Mathematics Softwar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 Unicode MS"/>
              </a:rPr>
              <a:t>Chris 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Unicode MS"/>
              </a:rPr>
              <a:t>Teaching &amp; Learning Adv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Unicode MS"/>
              </a:rPr>
              <a:t>Hampshire County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164360" y="1990800"/>
            <a:ext cx="1440000" cy="13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4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ultiple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79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Symbolic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⇔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Graphics</a:t>
            </a:r>
            <a:br>
              <a:rPr sz="3200"/>
            </a:b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Coordinates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⇔ Point in Coordina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Circle‘s Equation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⇔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ircle drawn in Coordina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unction‘s Equation ⇔ Graph of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tions: Sketch &amp;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80964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ations: Geometry &amp; Alg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826920" y="1876320"/>
            <a:ext cx="72741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s: Math &amp; Real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41767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iments: What happens when ...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713592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89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ducational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9200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tudent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ultiple Re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xperimental and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uided Discovery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11280" y="2155680"/>
            <a:ext cx="81374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5400" spc="-1" strike="noStrike">
                <a:solidFill>
                  <a:srgbClr val="646464"/>
                </a:solidFill>
                <a:latin typeface="Century Gothic"/>
              </a:rPr>
              <a:t>GeoGebra Communtiy</a:t>
            </a:r>
            <a:br>
              <a:rPr sz="4800"/>
            </a:b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and free software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it Fr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1980720"/>
            <a:ext cx="785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in Schools and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Forum – Users help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ebraWiki – Pool of Share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s (Translators, Programm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Wide User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7180200" cy="4000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572080" y="2785680"/>
            <a:ext cx="35719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,000 visitor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What is GeoGeb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514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Dynamic Mathematics</a:t>
            </a:r>
            <a:br>
              <a:rPr sz="3000"/>
            </a:b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For Learning and Teaching</a:t>
            </a:r>
            <a:br>
              <a:rPr sz="3000"/>
            </a:b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in Sch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eo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metry, Al</a:t>
            </a: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ebra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 and Calcul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Freely available from</a:t>
            </a:r>
            <a:br>
              <a:rPr sz="3000"/>
            </a:br>
            <a:r>
              <a:rPr b="0" lang="de-AT" sz="30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www.geogebra.org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2"/>
          <p:cNvGraphicFramePr/>
          <p:nvPr/>
        </p:nvGraphicFramePr>
        <p:xfrm>
          <a:off x="468360" y="1916280"/>
          <a:ext cx="3117960" cy="38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916280"/>
                    <a:ext cx="311796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ebra User 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289160" y="1857240"/>
            <a:ext cx="6307200" cy="3930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403280" y="59500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geogebra.org/forum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ebraWiki – Free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359000" y="1785960"/>
            <a:ext cx="6092640" cy="41832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403280" y="60786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geogebra.org/wiki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11280" y="2155680"/>
            <a:ext cx="7777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5200" spc="-1" strike="noStrike">
                <a:solidFill>
                  <a:srgbClr val="646464"/>
                </a:solidFill>
                <a:latin typeface="Century Gothic"/>
              </a:rPr>
              <a:t>Hands-on </a:t>
            </a:r>
            <a:r>
              <a:rPr b="0" lang="de-AT" sz="5200" spc="-1" strike="noStrike">
                <a:solidFill>
                  <a:srgbClr val="646464"/>
                </a:solidFill>
                <a:latin typeface="Century Gothic"/>
              </a:rPr>
              <a:t>Activities</a:t>
            </a:r>
            <a:endParaRPr b="0" i="1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646464"/>
                </a:solidFill>
                <a:latin typeface="Century Gothic"/>
              </a:rPr>
              <a:t>Thanks to </a:t>
            </a:r>
            <a:r>
              <a:rPr b="1" lang="en-US" sz="2800" spc="-1" strike="noStrike">
                <a:solidFill>
                  <a:srgbClr val="646464"/>
                </a:solidFill>
                <a:latin typeface="Century Gothic"/>
              </a:rPr>
              <a:t>Judith and Markus Hohenwarter</a:t>
            </a:r>
            <a:r>
              <a:rPr b="0" lang="en-US" sz="2800" spc="-1" strike="noStrike">
                <a:solidFill>
                  <a:srgbClr val="646464"/>
                </a:solidFill>
                <a:latin typeface="Century Gothic"/>
              </a:rPr>
              <a:t> for their adaptable resources used today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042920" y="1467000"/>
            <a:ext cx="6985080" cy="5202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503280" y="404640"/>
            <a:ext cx="3313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GeoGebra  =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598920" y="404640"/>
            <a:ext cx="266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480000" y="404640"/>
            <a:ext cx="266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Algebra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086520" y="404640"/>
            <a:ext cx="57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427640" y="5516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Geometry &amp; Graphics Window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258920" y="4076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lgebra Window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11280" y="2155680"/>
            <a:ext cx="7777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Using GeoGebra for</a:t>
            </a:r>
            <a:br>
              <a:rPr sz="4800"/>
            </a:br>
            <a:r>
              <a:rPr b="1" lang="de-AT" sz="5200" spc="-1" strike="noStrike">
                <a:solidFill>
                  <a:srgbClr val="646464"/>
                </a:solidFill>
                <a:latin typeface="Century Gothic"/>
              </a:rPr>
              <a:t>Teaching &amp; Learning</a:t>
            </a: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 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2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3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Adding 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71680" y="2343240"/>
            <a:ext cx="807696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553440" cy="43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77770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2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3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9:12:47Z</dcterms:created>
  <dc:creator>Markus Hohenwarter</dc:creator>
  <dc:description/>
  <dc:language>en-US</dc:language>
  <cp:lastModifiedBy>Chris</cp:lastModifiedBy>
  <dcterms:modified xsi:type="dcterms:W3CDTF">2011-07-05T20:25:50Z</dcterms:modified>
  <cp:revision>222</cp:revision>
  <dc:subject/>
  <dc:title>GeoGebra</dc:title>
</cp:coreProperties>
</file>