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FF3B9-3916-4309-AC90-C36AA287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8045E-CBB7-4ECB-BD30-FF47FC83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8FA98-32F0-44BB-A9A4-1B732EBEA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EB3A9-17B3-48C9-A8FB-F0F5FD7B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6812-DF98-414B-9E60-B43EDE1B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4ED5-09F5-48C3-AE37-4FF3EE71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3939-1CA8-411B-9717-7B4F6183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28C8-9401-473C-B4AF-925CCBBE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517B-B471-4D18-AD83-8097D66B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26B5-78DD-4240-BC3E-01458BB5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7827-F561-412A-9D5E-C444A89C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F342A-5D8A-48D0-89F1-12B78A59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C13A-41F3-4656-8573-0356D782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3BC4-2A92-41AF-854A-A316798F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BC80-D988-4B49-B519-1A507327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FA57-A5C7-496D-9CB5-97E68112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24EF-355F-441A-9DB4-A4F751BC2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6D014-052D-401C-8DAC-A564643D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891F7-C0AF-4008-95DE-B8FA9978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F9FF2-EF85-4F35-B523-4319F321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50693-D321-483A-9871-3E19FDDB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4DC3D-B7B5-487B-81BF-17D065A3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A4720-A086-4B29-A1D4-15D33C48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A29DB-EAEB-447D-92A2-236978B2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4"/>
          <p:cNvSpPr/>
          <p:nvPr/>
        </p:nvSpPr>
        <p:spPr>
          <a:xfrm>
            <a:off x="395280" y="333360"/>
            <a:ext cx="8280360" cy="24768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BCC3-FFA3-49A2-BF6A-EF4BE286C069}" type="slidenum">
              <a:rPr b="0" lang="de-D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20"/>
          <p:cNvSpPr/>
          <p:nvPr/>
        </p:nvSpPr>
        <p:spPr>
          <a:xfrm>
            <a:off x="395280" y="266760"/>
            <a:ext cx="1584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ffffff"/>
                </a:solidFill>
                <a:latin typeface="Arial"/>
              </a:rPr>
              <a:t>GeoGebra</a:t>
            </a: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" name="Object 25"/>
          <p:cNvGraphicFramePr/>
          <p:nvPr/>
        </p:nvGraphicFramePr>
        <p:xfrm>
          <a:off x="8317080" y="219240"/>
          <a:ext cx="431640" cy="41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Object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17080" y="219240"/>
                    <a:ext cx="431640" cy="41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9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4c4f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76B6-D15F-4C0C-9A45-53B6066578AD}" type="slidenum">
              <a:rPr b="0" lang="de-D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examples/visualizing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eogebra.org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examples/visualizing" TargetMode="External"/><Relationship Id="rId2" Type="http://schemas.openxmlformats.org/officeDocument/2006/relationships/hyperlink" Target="file:///../examples/representations" TargetMode="External"/><Relationship Id="rId3" Type="http://schemas.openxmlformats.org/officeDocument/2006/relationships/hyperlink" Target="file:///../examples/experiments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examples/visualizing" TargetMode="External"/><Relationship Id="rId2" Type="http://schemas.openxmlformats.org/officeDocument/2006/relationships/hyperlink" Target="file:///../examples/representations" TargetMode="External"/><Relationship Id="rId3" Type="http://schemas.openxmlformats.org/officeDocument/2006/relationships/hyperlink" Target="file:///../examples/experiments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1700280"/>
            <a:ext cx="68407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500" spc="-1" strike="noStrike">
                <a:solidFill>
                  <a:srgbClr val="646464"/>
                </a:solidFill>
                <a:latin typeface="Century Gothic"/>
              </a:rPr>
              <a:t>GeoGebra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71320" y="3428640"/>
            <a:ext cx="83581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Century Gothic"/>
              </a:rPr>
              <a:t>Free Dynamic </a:t>
            </a:r>
            <a:br>
              <a:rPr sz="4100"/>
            </a:br>
            <a:r>
              <a:rPr b="0" lang="en-US" sz="4100" spc="-1" strike="noStrike">
                <a:solidFill>
                  <a:srgbClr val="646464"/>
                </a:solidFill>
                <a:latin typeface="Century Gothic"/>
              </a:rPr>
              <a:t>Mathematics Softwar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de-AT" sz="1800" spc="-1" strike="noStrike">
                <a:solidFill>
                  <a:srgbClr val="000000"/>
                </a:solidFill>
                <a:latin typeface="Arial Unicode MS"/>
              </a:rPr>
              <a:t>Chris Mar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Unicode MS"/>
              </a:rPr>
              <a:t>Teaching &amp; Learning Adv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Unicode MS"/>
              </a:rPr>
              <a:t>Hampshire County Cou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7164360" y="1990800"/>
            <a:ext cx="1440000" cy="138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4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ultiple Repres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7993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Symbolic 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⇔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 Graphics</a:t>
            </a:r>
            <a:br>
              <a:rPr sz="3200"/>
            </a:b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Coordinates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⇔ Point in Coordinat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Circle‘s Equation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⇔ 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Circle drawn in Coordinat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Function‘s Equation ⇔ Graph of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tions: Sketch &amp; 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80964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resentations: Geometry &amp; Alge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826920" y="1876320"/>
            <a:ext cx="727416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Using Geo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7643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1"/>
              </a:rPr>
              <a:t>Visualizing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tudents can “see” abstract concept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on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tudents can make connection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Experi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discover 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s: Math &amp; Real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2411280" y="1844640"/>
            <a:ext cx="417672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eriments: What happens when ...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7135920" cy="43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689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Educational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9200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tudent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Multiple Represen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Experimental and 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uided Discovery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611280" y="2155680"/>
            <a:ext cx="81374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5400" spc="-1" strike="noStrike">
                <a:solidFill>
                  <a:srgbClr val="646464"/>
                </a:solidFill>
                <a:latin typeface="Century Gothic"/>
              </a:rPr>
              <a:t>GeoGebra Communtiy</a:t>
            </a:r>
            <a:br>
              <a:rPr sz="4800"/>
            </a:br>
            <a:r>
              <a:rPr b="0" lang="de-AT" sz="4800" spc="-1" strike="noStrike">
                <a:solidFill>
                  <a:srgbClr val="646464"/>
                </a:solidFill>
                <a:latin typeface="Century Gothic"/>
              </a:rPr>
              <a:t>and free software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it Fre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560" y="1980720"/>
            <a:ext cx="785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in Schools and at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Forum – Users help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ebraWiki – Pool of Shared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s (Translators, Programm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Wide User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571680" y="2071800"/>
            <a:ext cx="7180200" cy="4000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5572080" y="2785680"/>
            <a:ext cx="357192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0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,000 visitor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Arial"/>
              </a:rPr>
              <a:t>What is GeoGebr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95280" y="1915920"/>
            <a:ext cx="5148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Dynamic Mathematics</a:t>
            </a:r>
            <a:br>
              <a:rPr sz="3000"/>
            </a:b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For Learning and Teaching</a:t>
            </a:r>
            <a:br>
              <a:rPr sz="3000"/>
            </a:b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in Scho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eo</a:t>
            </a: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metry, Al</a:t>
            </a: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ebra</a:t>
            </a: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 and Calcul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Freely available from</a:t>
            </a:r>
            <a:br>
              <a:rPr sz="3000"/>
            </a:br>
            <a:r>
              <a:rPr b="0" lang="de-AT" sz="3000" spc="-1" strike="noStrike" u="sng">
                <a:solidFill>
                  <a:srgbClr val="6464c8"/>
                </a:solidFill>
                <a:uFillTx/>
                <a:latin typeface="Arial"/>
                <a:hlinkClick r:id="rId1"/>
              </a:rPr>
              <a:t>www.geogebra.org</a:t>
            </a: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12"/>
          <p:cNvGraphicFramePr/>
          <p:nvPr/>
        </p:nvGraphicFramePr>
        <p:xfrm>
          <a:off x="468360" y="1916280"/>
          <a:ext cx="3117960" cy="381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916280"/>
                    <a:ext cx="3117960" cy="38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ebra User Fo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289160" y="1857240"/>
            <a:ext cx="6307200" cy="3930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1403280" y="595008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.geogebra.org/forum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ebraWiki – Free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359000" y="1785960"/>
            <a:ext cx="6092640" cy="41832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1403280" y="607860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.geogebra.org/wiki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611280" y="2155680"/>
            <a:ext cx="77770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5200" spc="-1" strike="noStrike">
                <a:solidFill>
                  <a:srgbClr val="646464"/>
                </a:solidFill>
                <a:latin typeface="Century Gothic"/>
              </a:rPr>
              <a:t>Hands-on </a:t>
            </a:r>
            <a:r>
              <a:rPr b="0" lang="de-AT" sz="5200" spc="-1" strike="noStrike">
                <a:solidFill>
                  <a:srgbClr val="646464"/>
                </a:solidFill>
                <a:latin typeface="Century Gothic"/>
              </a:rPr>
              <a:t>Activities</a:t>
            </a:r>
            <a:endParaRPr b="0" i="1" lang="en-US" sz="5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646464"/>
                </a:solidFill>
                <a:latin typeface="Century Gothic"/>
              </a:rPr>
              <a:t>Thanks to </a:t>
            </a:r>
            <a:r>
              <a:rPr b="1" lang="en-US" sz="2800" spc="-1" strike="noStrike">
                <a:solidFill>
                  <a:srgbClr val="646464"/>
                </a:solidFill>
                <a:latin typeface="Century Gothic"/>
              </a:rPr>
              <a:t>Judith and Markus Hohenwarter</a:t>
            </a:r>
            <a:r>
              <a:rPr b="0" lang="en-US" sz="2800" spc="-1" strike="noStrike">
                <a:solidFill>
                  <a:srgbClr val="646464"/>
                </a:solidFill>
                <a:latin typeface="Century Gothic"/>
              </a:rPr>
              <a:t> for their adaptable resources used today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042920" y="1467000"/>
            <a:ext cx="6985080" cy="5202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503280" y="404640"/>
            <a:ext cx="3313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GeoGebra  =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598920" y="404640"/>
            <a:ext cx="2663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6480000" y="404640"/>
            <a:ext cx="266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Algebra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6086520" y="404640"/>
            <a:ext cx="576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4427640" y="5516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Geometry &amp; Graphics Window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258920" y="4076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lgebra Window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611280" y="2155680"/>
            <a:ext cx="77770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800" spc="-1" strike="noStrike">
                <a:solidFill>
                  <a:srgbClr val="646464"/>
                </a:solidFill>
                <a:latin typeface="Century Gothic"/>
              </a:rPr>
              <a:t>Using GeoGebra for</a:t>
            </a:r>
            <a:br>
              <a:rPr sz="4800"/>
            </a:br>
            <a:r>
              <a:rPr b="1" lang="de-AT" sz="5200" spc="-1" strike="noStrike">
                <a:solidFill>
                  <a:srgbClr val="646464"/>
                </a:solidFill>
                <a:latin typeface="Century Gothic"/>
              </a:rPr>
              <a:t>Teaching &amp; Learning</a:t>
            </a:r>
            <a:r>
              <a:rPr b="0" lang="de-AT" sz="4800" spc="-1" strike="noStrike">
                <a:solidFill>
                  <a:srgbClr val="646464"/>
                </a:solidFill>
                <a:latin typeface="Century Gothic"/>
              </a:rPr>
              <a:t> 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Using Geo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7643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1"/>
              </a:rPr>
              <a:t>Visualiz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“see” abstract concep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2"/>
              </a:rPr>
              <a:t>Representa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make connec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3"/>
              </a:rPr>
              <a:t>Experi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discover 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ing Adding Inte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71680" y="2343240"/>
            <a:ext cx="807696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ing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553440" cy="43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ing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77770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Using Geo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7643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1"/>
              </a:rPr>
              <a:t>Visualizing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tudents can “see” abstract concept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2"/>
              </a:rPr>
              <a:t>Representa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make connec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3"/>
              </a:rPr>
              <a:t>Experiment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tudents can discover 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19:12:47Z</dcterms:created>
  <dc:creator>Markus Hohenwarter</dc:creator>
  <dc:description/>
  <dc:language>en-US</dc:language>
  <cp:lastModifiedBy>Chris</cp:lastModifiedBy>
  <dcterms:modified xsi:type="dcterms:W3CDTF">2011-07-05T20:25:50Z</dcterms:modified>
  <cp:revision>222</cp:revision>
  <dc:subject/>
  <dc:title>GeoGebra</dc:title>
</cp:coreProperties>
</file>