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40501-1547-46C3-ADED-F191AD4B1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B5908-4E1F-4F89-ACF4-9989417B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02699-F8D0-40EB-AB92-05AB56F3B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6FCD9-4C3B-4569-AA5F-C17AF24E2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ACCCF-E328-4FF0-A550-7736343DE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41E6-5805-43CC-BBE2-11C81A83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3B81-E8DA-4D7A-AF7E-B0CB1E3F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D5BC-5E0A-4C60-8213-0762CA21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D3D16-A6C8-48D9-A65E-F5C228D2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D0C4-291B-49FB-AD4F-25DE3C6E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06BF-0D31-4A47-81F5-87F468E7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AFBAC-E1C7-47AF-935F-B7E7DBD4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7540-4A67-4AE2-8DCD-CB580C19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7758-4E1C-4087-9042-FA9D0973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E0DDA-828A-400D-A79E-ECE61E97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1A90-55D4-4BCA-8190-F022A1325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4C2F-2096-447A-BCC5-79FA43FF3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4A37C-EE6C-4983-A430-16F82035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BF0FE-286B-4EC9-A6E3-21689890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02E47-3FC4-48C1-8FA3-836D95C5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FC8F1-8DFE-40E7-9114-C0180E8D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FA982-F7DC-4832-8A32-3C72F7D0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1E610-302B-454F-9B5C-4EA1C792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B4455-ED6E-4422-B7FB-FA2C293F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4"/>
          <p:cNvSpPr/>
          <p:nvPr/>
        </p:nvSpPr>
        <p:spPr>
          <a:xfrm>
            <a:off x="395280" y="333360"/>
            <a:ext cx="8280360" cy="247680"/>
          </a:xfrm>
          <a:prstGeom prst="rect">
            <a:avLst/>
          </a:prstGeom>
          <a:gradFill rotWithShape="0">
            <a:gsLst>
              <a:gs pos="0">
                <a:srgbClr val="9999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3430-1333-44E0-BE73-8FF318E75A73}" type="slidenum">
              <a:rPr b="0" lang="de-DE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20"/>
          <p:cNvSpPr/>
          <p:nvPr/>
        </p:nvSpPr>
        <p:spPr>
          <a:xfrm>
            <a:off x="395280" y="266760"/>
            <a:ext cx="15843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ffffff"/>
                </a:solidFill>
                <a:latin typeface="Arial"/>
              </a:rPr>
              <a:t>GeoGebra</a:t>
            </a: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" name="Object 25"/>
          <p:cNvGraphicFramePr/>
          <p:nvPr/>
        </p:nvGraphicFramePr>
        <p:xfrm>
          <a:off x="8317080" y="219240"/>
          <a:ext cx="431640" cy="41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Object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17080" y="219240"/>
                    <a:ext cx="431640" cy="41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9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4c4f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202C-E5B5-48E3-9CC1-8805A239A637}" type="slidenum">
              <a:rPr b="0" lang="de-DE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examples/visualizing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eogebra.org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../examples/visualizing" TargetMode="External"/><Relationship Id="rId2" Type="http://schemas.openxmlformats.org/officeDocument/2006/relationships/hyperlink" Target="file:///../examples/representations" TargetMode="External"/><Relationship Id="rId3" Type="http://schemas.openxmlformats.org/officeDocument/2006/relationships/hyperlink" Target="file:///../examples/experiments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../examples/visualizing" TargetMode="External"/><Relationship Id="rId2" Type="http://schemas.openxmlformats.org/officeDocument/2006/relationships/hyperlink" Target="file:///../examples/representations" TargetMode="External"/><Relationship Id="rId3" Type="http://schemas.openxmlformats.org/officeDocument/2006/relationships/hyperlink" Target="file:///../examples/experiments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1700280"/>
            <a:ext cx="68407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500" spc="-1" strike="noStrike">
                <a:solidFill>
                  <a:srgbClr val="646464"/>
                </a:solidFill>
                <a:latin typeface="Century Gothic"/>
              </a:rPr>
              <a:t>GeoGebra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71320" y="3428640"/>
            <a:ext cx="83581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Century Gothic"/>
              </a:rPr>
              <a:t>Free Dynamic </a:t>
            </a:r>
            <a:br>
              <a:rPr sz="4100"/>
            </a:br>
            <a:r>
              <a:rPr b="0" lang="en-US" sz="4100" spc="-1" strike="noStrike">
                <a:solidFill>
                  <a:srgbClr val="646464"/>
                </a:solidFill>
                <a:latin typeface="Century Gothic"/>
              </a:rPr>
              <a:t>Mathematics Softwar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de-AT" sz="1800" spc="-1" strike="noStrike">
                <a:solidFill>
                  <a:srgbClr val="000000"/>
                </a:solidFill>
                <a:latin typeface="Arial Unicode MS"/>
              </a:rPr>
              <a:t>Chris Mar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 Unicode MS"/>
              </a:rPr>
              <a:t>Teaching &amp; Learning Adv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 Unicode MS"/>
              </a:rPr>
              <a:t>Hampshire County Coun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7164360" y="1990800"/>
            <a:ext cx="1440000" cy="138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4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ultiple Represen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7993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Symbolic </a:t>
            </a:r>
            <a:r>
              <a:rPr b="0" lang="de-AT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⇔</a:t>
            </a: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 Graphics</a:t>
            </a:r>
            <a:br>
              <a:rPr sz="3200"/>
            </a:b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Coordinates 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⇔ Point in Coordinat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Circle‘s Equation 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⇔ </a:t>
            </a:r>
            <a:br>
              <a:rPr sz="2800"/>
            </a:br>
            <a:r>
              <a:rPr b="0" lang="de-AT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Circle drawn in Coordinat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Function‘s Equation ⇔ Graph of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tions: Sketch &amp; Gra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809640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resentations: Geometry &amp; Algeb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826920" y="1876320"/>
            <a:ext cx="727416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Using GeoGeb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560" y="1981080"/>
            <a:ext cx="76438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464c8"/>
                </a:solidFill>
                <a:uFillTx/>
                <a:latin typeface="Arial"/>
                <a:hlinkClick r:id="rId1"/>
              </a:rPr>
              <a:t>Visualizing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tudents can “see” abstract concepts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ations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tudents can make connections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Experimen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an discover 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iments: Math &amp; Real Wor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2411280" y="1844640"/>
            <a:ext cx="417672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eriments: What happens when ...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7135920" cy="43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689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Educational Princ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92000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tudent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Multiple Represen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Experimental and 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Guided Discovery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611280" y="2155680"/>
            <a:ext cx="813744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5400" spc="-1" strike="noStrike">
                <a:solidFill>
                  <a:srgbClr val="646464"/>
                </a:solidFill>
                <a:latin typeface="Century Gothic"/>
              </a:rPr>
              <a:t>GeoGebra Communtiy</a:t>
            </a:r>
            <a:br>
              <a:rPr sz="4800"/>
            </a:br>
            <a:r>
              <a:rPr b="0" lang="de-AT" sz="4800" spc="-1" strike="noStrike">
                <a:solidFill>
                  <a:srgbClr val="646464"/>
                </a:solidFill>
                <a:latin typeface="Century Gothic"/>
              </a:rPr>
              <a:t>and free software</a:t>
            </a: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it Fre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560" y="1980720"/>
            <a:ext cx="7859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in Schools and at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tional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Forum – Users help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ebraWiki – Pool of Shared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s (Translators, Programm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 Wide User 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571680" y="2071800"/>
            <a:ext cx="7180200" cy="40003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5572080" y="2785680"/>
            <a:ext cx="357192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0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,000 visitor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mo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Arial"/>
              </a:rPr>
              <a:t>What is GeoGebr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95280" y="1915920"/>
            <a:ext cx="5148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Dynamic Mathematics</a:t>
            </a:r>
            <a:br>
              <a:rPr sz="3000"/>
            </a:b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For Learning and Teaching</a:t>
            </a:r>
            <a:br>
              <a:rPr sz="3000"/>
            </a:b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in Scho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eo</a:t>
            </a: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metry, Al</a:t>
            </a: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ebra</a:t>
            </a: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 and Calcul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Freely available from</a:t>
            </a:r>
            <a:br>
              <a:rPr sz="3000"/>
            </a:br>
            <a:r>
              <a:rPr b="0" lang="de-AT" sz="3000" spc="-1" strike="noStrike" u="sng">
                <a:solidFill>
                  <a:srgbClr val="6464c8"/>
                </a:solidFill>
                <a:uFillTx/>
                <a:latin typeface="Arial"/>
                <a:hlinkClick r:id="rId1"/>
              </a:rPr>
              <a:t>www.geogebra.org</a:t>
            </a: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12"/>
          <p:cNvGraphicFramePr/>
          <p:nvPr/>
        </p:nvGraphicFramePr>
        <p:xfrm>
          <a:off x="468360" y="1916280"/>
          <a:ext cx="3117960" cy="381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916280"/>
                    <a:ext cx="3117960" cy="38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Gebra User Fo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289160" y="1857240"/>
            <a:ext cx="6307200" cy="3930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1403280" y="595008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ww.geogebra.org/forum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GebraWiki – Free 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1359000" y="1785960"/>
            <a:ext cx="6092640" cy="41832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1403280" y="607860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ww.geogebra.org/wiki 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611280" y="2155680"/>
            <a:ext cx="77770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5200" spc="-1" strike="noStrike">
                <a:solidFill>
                  <a:srgbClr val="646464"/>
                </a:solidFill>
                <a:latin typeface="Century Gothic"/>
              </a:rPr>
              <a:t>Hands-on </a:t>
            </a:r>
            <a:r>
              <a:rPr b="0" lang="de-AT" sz="5200" spc="-1" strike="noStrike">
                <a:solidFill>
                  <a:srgbClr val="646464"/>
                </a:solidFill>
                <a:latin typeface="Century Gothic"/>
              </a:rPr>
              <a:t>Activities</a:t>
            </a:r>
            <a:endParaRPr b="0" i="1" lang="en-US" sz="5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646464"/>
                </a:solidFill>
                <a:latin typeface="Century Gothic"/>
              </a:rPr>
              <a:t>Thanks to </a:t>
            </a:r>
            <a:r>
              <a:rPr b="1" lang="en-US" sz="2800" spc="-1" strike="noStrike">
                <a:solidFill>
                  <a:srgbClr val="646464"/>
                </a:solidFill>
                <a:latin typeface="Century Gothic"/>
              </a:rPr>
              <a:t>Judith and Markus Hohenwarter</a:t>
            </a:r>
            <a:r>
              <a:rPr b="0" lang="en-US" sz="2800" spc="-1" strike="noStrike">
                <a:solidFill>
                  <a:srgbClr val="646464"/>
                </a:solidFill>
                <a:latin typeface="Century Gothic"/>
              </a:rPr>
              <a:t> for their adaptable resources used today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042920" y="1467000"/>
            <a:ext cx="6985080" cy="5202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"/>
          <p:cNvSpPr/>
          <p:nvPr/>
        </p:nvSpPr>
        <p:spPr>
          <a:xfrm>
            <a:off x="503280" y="404640"/>
            <a:ext cx="3313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Arial"/>
              </a:rPr>
              <a:t>GeoGebra  =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598920" y="404640"/>
            <a:ext cx="2663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6480000" y="404640"/>
            <a:ext cx="266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Arial"/>
              </a:rPr>
              <a:t>Algebra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6086520" y="404640"/>
            <a:ext cx="576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4427640" y="55166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Geometry &amp; Graphics Window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1258920" y="407664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lgebra Window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611280" y="2155680"/>
            <a:ext cx="77770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800" spc="-1" strike="noStrike">
                <a:solidFill>
                  <a:srgbClr val="646464"/>
                </a:solidFill>
                <a:latin typeface="Century Gothic"/>
              </a:rPr>
              <a:t>Using GeoGebra for</a:t>
            </a:r>
            <a:br>
              <a:rPr sz="4800"/>
            </a:br>
            <a:r>
              <a:rPr b="1" lang="de-AT" sz="5200" spc="-1" strike="noStrike">
                <a:solidFill>
                  <a:srgbClr val="646464"/>
                </a:solidFill>
                <a:latin typeface="Century Gothic"/>
              </a:rPr>
              <a:t>Teaching &amp; Learning</a:t>
            </a:r>
            <a:r>
              <a:rPr b="0" lang="de-AT" sz="4800" spc="-1" strike="noStrike">
                <a:solidFill>
                  <a:srgbClr val="646464"/>
                </a:solidFill>
                <a:latin typeface="Century Gothic"/>
              </a:rPr>
              <a:t> </a:t>
            </a: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Using GeoGeb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42560" y="1981080"/>
            <a:ext cx="76438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464c8"/>
                </a:solidFill>
                <a:uFillTx/>
                <a:latin typeface="Arial"/>
                <a:hlinkClick r:id="rId1"/>
              </a:rPr>
              <a:t>Visualiz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an “see” abstract concep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464c8"/>
                </a:solidFill>
                <a:uFillTx/>
                <a:latin typeface="Arial"/>
                <a:hlinkClick r:id="rId2"/>
              </a:rPr>
              <a:t>Representati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an make connecti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464c8"/>
                </a:solidFill>
                <a:uFillTx/>
                <a:latin typeface="Arial"/>
                <a:hlinkClick r:id="rId3"/>
              </a:rPr>
              <a:t>Experimen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an discover 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ing Adding Inte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571680" y="2343240"/>
            <a:ext cx="807696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ing Para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6553440" cy="43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ing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77770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Using GeoGeb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42560" y="1981080"/>
            <a:ext cx="76438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464c8"/>
                </a:solidFill>
                <a:uFillTx/>
                <a:latin typeface="Arial"/>
                <a:hlinkClick r:id="rId1"/>
              </a:rPr>
              <a:t>Visualizing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tudents can “see” abstract concepts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464c8"/>
                </a:solidFill>
                <a:uFillTx/>
                <a:latin typeface="Arial"/>
                <a:hlinkClick r:id="rId2"/>
              </a:rPr>
              <a:t>Representati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an make connecti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464c8"/>
                </a:solidFill>
                <a:uFillTx/>
                <a:latin typeface="Arial"/>
                <a:hlinkClick r:id="rId3"/>
              </a:rPr>
              <a:t>Experiments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tudents can discover 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19:12:47Z</dcterms:created>
  <dc:creator>Markus Hohenwarter</dc:creator>
  <dc:description/>
  <dc:language>en-US</dc:language>
  <cp:lastModifiedBy>Chris</cp:lastModifiedBy>
  <dcterms:modified xsi:type="dcterms:W3CDTF">2011-07-05T20:25:50Z</dcterms:modified>
  <cp:revision>222</cp:revision>
  <dc:subject/>
  <dc:title>GeoGebra</dc:title>
</cp:coreProperties>
</file>