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DFB6-738C-483B-B4B1-F8B4691B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DD8C-8767-43FC-8C42-C48F9D2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74A0-42D1-4F1D-9370-3D4780E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1945-B749-4E64-A120-5B961627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1EEC-DC68-442C-8688-31AA28B1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D810-3231-44C3-9F93-4694B75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4BE-35E5-49AD-A233-B9CBA3A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E482-A5FA-4934-B2DA-F042B083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5800-D085-46EA-854A-414D4448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2E63-4697-4C2A-A1C7-47185493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927-F525-4FBD-8C4C-BC7979A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A184-BC71-41BE-87A4-C0E592D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76D1-8247-4794-8D15-785AC2C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9BD-A9B9-4E00-AE73-CEF82C2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0341-CD9E-4ADB-821C-533993ED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B16-09D4-440E-90E1-2DE6BDF1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3F3F-4083-439D-95FD-5A12AE8D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50E4-639F-4C0E-832A-A48C7C5D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2769-8FA8-471A-85E0-99199491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F03C-2CA2-4AA8-91E3-B8F8CC93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71B1-BC77-4C69-A93B-BF94BBCC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FBDB-80C7-423F-AA0B-0C6978B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5F67-B0F0-48BA-9D8B-51590B48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1E2D-42F5-42A9-815C-EE7E869F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395280" y="333360"/>
            <a:ext cx="8280360" cy="24768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4E6B-89D2-4464-85DB-C7850F8A5FB4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266760"/>
            <a:ext cx="1584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ffffff"/>
                </a:solidFill>
                <a:latin typeface="Arial"/>
              </a:rPr>
              <a:t>GeoGebra</a:t>
            </a:r>
            <a:endParaRPr b="0" i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25"/>
          <p:cNvGraphicFramePr/>
          <p:nvPr/>
        </p:nvGraphicFramePr>
        <p:xfrm>
          <a:off x="8317080" y="219240"/>
          <a:ext cx="431640" cy="41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17080" y="219240"/>
                    <a:ext cx="4316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4c4f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B95-AFAE-46B6-9BC2-F7D55CE1F811}" type="slidenum">
              <a:rPr b="0" lang="de-D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ogebra.org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examples/visualizing" TargetMode="External"/><Relationship Id="rId2" Type="http://schemas.openxmlformats.org/officeDocument/2006/relationships/hyperlink" Target="file:///../examples/representations" TargetMode="External"/><Relationship Id="rId3" Type="http://schemas.openxmlformats.org/officeDocument/2006/relationships/hyperlink" Target="file:///../examples/experiments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6840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500" spc="-1" strike="noStrike">
                <a:solidFill>
                  <a:srgbClr val="646464"/>
                </a:solidFill>
                <a:latin typeface="Century Gothic"/>
              </a:rPr>
              <a:t>GeoGebra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71320" y="3428640"/>
            <a:ext cx="83581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Free Dynamic </a:t>
            </a:r>
            <a:br>
              <a:rPr sz="4100"/>
            </a:br>
            <a:r>
              <a:rPr b="0" lang="en-US" sz="4100" spc="-1" strike="noStrike">
                <a:solidFill>
                  <a:srgbClr val="646464"/>
                </a:solidFill>
                <a:latin typeface="Century Gothic"/>
              </a:rPr>
              <a:t>Mathematics Softwar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 Unicode MS"/>
              </a:rPr>
              <a:t>Chris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Teaching &amp; Learning Adv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Hampshire Count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164360" y="199080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ymbolic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⇔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Graphics</a:t>
            </a:r>
            <a:br>
              <a:rPr sz="3200"/>
            </a:b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oordinates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Point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Circle‘s Equation 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⇔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ircle drawn in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unction‘s Equation ⇔ Graph of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s: Sketch &amp;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96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ations: Geometry &amp; 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26920" y="1876320"/>
            <a:ext cx="7274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s: Math &amp; Real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176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ments: What happens when ...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3592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8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ducational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9200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tuden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ultipl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xperimental and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uid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11280" y="2155680"/>
            <a:ext cx="8137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400" spc="-1" strike="noStrike">
                <a:solidFill>
                  <a:srgbClr val="646464"/>
                </a:solidFill>
                <a:latin typeface="Century Gothic"/>
              </a:rPr>
              <a:t>GeoGebra Communtiy</a:t>
            </a:r>
            <a:br>
              <a:rPr sz="4800"/>
            </a:b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and free software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F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Schools and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orum – Users hel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ebraWiki – Pool of Shar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s (Translators, Programm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Wide Use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71680" y="2071800"/>
            <a:ext cx="7180200" cy="4000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572080" y="2785680"/>
            <a:ext cx="3571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,000 visi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What is GeoGeb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514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Dynamic Mathematics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or Learning and Teaching</a:t>
            </a:r>
            <a:br>
              <a:rPr sz="3000"/>
            </a:b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 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etry, Al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ebra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and Calcul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Freely available from</a:t>
            </a:r>
            <a:br>
              <a:rPr sz="3000"/>
            </a:br>
            <a:r>
              <a:rPr b="0" lang="de-AT" sz="30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www.geogebra.org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2"/>
          <p:cNvGraphicFramePr/>
          <p:nvPr/>
        </p:nvGraphicFramePr>
        <p:xfrm>
          <a:off x="468360" y="1916280"/>
          <a:ext cx="3117960" cy="38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311796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User 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89160" y="1857240"/>
            <a:ext cx="6307200" cy="3930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403280" y="59500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forum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Wiki – Free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359000" y="1785960"/>
            <a:ext cx="6092640" cy="41832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403280" y="6078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geogebra.org/wiki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Hands-on </a:t>
            </a:r>
            <a:r>
              <a:rPr b="0" lang="de-AT" sz="5200" spc="-1" strike="noStrike">
                <a:solidFill>
                  <a:srgbClr val="646464"/>
                </a:solidFill>
                <a:latin typeface="Century Gothic"/>
              </a:rPr>
              <a:t>Activities</a:t>
            </a: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646464"/>
                </a:solidFill>
                <a:latin typeface="Century Gothic"/>
              </a:rPr>
              <a:t>Thanks to </a:t>
            </a:r>
            <a:r>
              <a:rPr b="1" lang="en-US" sz="2800" spc="-1" strike="noStrike">
                <a:solidFill>
                  <a:srgbClr val="646464"/>
                </a:solidFill>
                <a:latin typeface="Century Gothic"/>
              </a:rPr>
              <a:t>Judith and Markus Hohenwarter</a:t>
            </a:r>
            <a:r>
              <a:rPr b="0" lang="en-US" sz="2800" spc="-1" strike="noStrike">
                <a:solidFill>
                  <a:srgbClr val="646464"/>
                </a:solidFill>
                <a:latin typeface="Century Gothic"/>
              </a:rPr>
              <a:t> for their adaptable resources used today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42920" y="1467000"/>
            <a:ext cx="6985080" cy="5202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503280" y="404640"/>
            <a:ext cx="3313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Gebra  =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98920" y="404640"/>
            <a:ext cx="266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480000" y="404640"/>
            <a:ext cx="26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086520" y="404640"/>
            <a:ext cx="57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427640" y="551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eometry &amp; Graphics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258920" y="4076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lgebra Window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1280" y="2155680"/>
            <a:ext cx="77770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Using GeoGebra for</a:t>
            </a:r>
            <a:br>
              <a:rPr sz="4800"/>
            </a:br>
            <a:r>
              <a:rPr b="1" lang="de-AT" sz="5200" spc="-1" strike="noStrike">
                <a:solidFill>
                  <a:srgbClr val="646464"/>
                </a:solidFill>
                <a:latin typeface="Century Gothic"/>
              </a:rPr>
              <a:t>Teaching &amp; Learning</a:t>
            </a:r>
            <a:r>
              <a:rPr b="0" lang="de-AT" sz="4800" spc="-1" strike="noStrike">
                <a:solidFill>
                  <a:srgbClr val="646464"/>
                </a:solidFill>
                <a:latin typeface="Century Gothic"/>
              </a:rPr>
              <a:t> </a:t>
            </a:r>
            <a:endParaRPr b="0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Adding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71680" y="2343240"/>
            <a:ext cx="80769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55344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izing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7770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Using GeoGe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7643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1"/>
              </a:rPr>
              <a:t>Visualizing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“see” abstract concep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2"/>
              </a:rPr>
              <a:t>Represent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an make connec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464c8"/>
                </a:solidFill>
                <a:uFillTx/>
                <a:latin typeface="Arial"/>
                <a:hlinkClick r:id="rId3"/>
              </a:rPr>
              <a:t>Experiments</a:t>
            </a:r>
            <a:br>
              <a:rPr sz="3200"/>
            </a:b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tudents can discover 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9:12:47Z</dcterms:created>
  <dc:creator>Markus Hohenwarter</dc:creator>
  <dc:description/>
  <dc:language>en-US</dc:language>
  <cp:lastModifiedBy>Chris</cp:lastModifiedBy>
  <dcterms:modified xsi:type="dcterms:W3CDTF">2011-07-05T20:25:50Z</dcterms:modified>
  <cp:revision>222</cp:revision>
  <dc:subject/>
  <dc:title>GeoGebra</dc:title>
</cp:coreProperties>
</file>